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9126F2-6B19-4FE8-A073-FDF7929E4D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4C130D5-66EB-43A4-BBAE-34BA1A1AAB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7A723E1B-92CF-4E73-98B4-29107249DE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14A7964B-17DF-43D9-8CC4-2124B57CBF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BACC86BD-EA59-4B30-AF37-64F672F581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C93EDB93-E1F8-4B86-8000-E339CBFFA0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E924657-0BD2-4734-ABFB-2B8CA101B4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1DCCFA4-559C-4225-A7F9-5126C3DA21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61716903-7BA0-4E64-9982-DE2A8133C2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29B30D0-ECC9-483B-A755-0480D32127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87D53F6-54F0-42B5-8CEF-AFF3071570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79BFC139-FAA3-4515-841A-10CCAF3834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88EE2-2D21-493E-A477-0270B744916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十章</a:t>
            </a:r>
            <a:r>
              <a:rPr b="1" lang="en-US" sz="5400" spc="-1" strike="noStrike">
                <a:solidFill>
                  <a:srgbClr val="ffffff"/>
                </a:solidFill>
                <a:latin typeface="华文新魏"/>
              </a:rPr>
              <a:t>  </a:t>
            </a:r>
            <a:r>
              <a:rPr b="1" lang="zh-CN" sz="5400" spc="-1" strike="noStrike">
                <a:solidFill>
                  <a:srgbClr val="ffffff"/>
                </a:solidFill>
                <a:latin typeface="华文新魏"/>
              </a:rPr>
              <a:t>颅脑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头皮损伤及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头皮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瞳孔和神志变化以及尿量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有无休克和颅骨损伤及脑损伤的发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敷料整洁和干燥，保持引流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创面有无渗血以及皮瓣坏死和感染情况</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无菌操作规程，密切观察有无全身和局部感染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应用抗生素和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a:t>
            </a:r>
            <a:r>
              <a:rPr b="1" lang="zh-CN" sz="5400" spc="-1" strike="noStrike">
                <a:solidFill>
                  <a:srgbClr val="ffffff"/>
                </a:solidFill>
                <a:latin typeface="华文新魏"/>
              </a:rPr>
              <a:t>二</a:t>
            </a:r>
            <a:r>
              <a:rPr b="0" lang="zh-CN" sz="5400" spc="-1" strike="noStrike">
                <a:solidFill>
                  <a:srgbClr val="ffffff"/>
                </a:solidFill>
                <a:latin typeface="华文新魏"/>
              </a:rPr>
              <a:t>节</a:t>
            </a:r>
            <a:r>
              <a:rPr b="0" lang="en-US" sz="5400" spc="-1" strike="noStrike">
                <a:solidFill>
                  <a:srgbClr val="ffffff"/>
                </a:solidFill>
                <a:latin typeface="华文新魏"/>
              </a:rPr>
              <a:t>  </a:t>
            </a:r>
            <a:r>
              <a:rPr b="0" lang="zh-CN" sz="5400" spc="-1" strike="noStrike">
                <a:solidFill>
                  <a:srgbClr val="ffffff"/>
                </a:solidFill>
                <a:latin typeface="华文新魏"/>
              </a:rPr>
              <a:t>颅骨骨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r>
              <a:rPr b="0" lang="en-US" sz="3200" spc="-1" strike="noStrike">
                <a:solidFill>
                  <a:srgbClr val="046ca6"/>
                </a:solidFill>
                <a:latin typeface="华文新魏"/>
              </a:rPr>
              <a:t>skull 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颅骨受暴力作用致颅骨结构破坏，常合并脑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为线性骨折</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纯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不需特殊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复位或摘除碎骨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重点是注意有无脑损伤和处理脑脊液漏及脑神经等合并伤</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损伤和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颅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感染的危险 与脑脊液外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颅内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颅内血肿的种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脑震荡的定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分别描述头皮损伤、脑震荡、脑挫裂伤的临床表现及处理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不同类型颅脑损伤对机体的影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中间清醒期、逆行性遗忘的含义及发生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不同部位颅底骨折的临床表现</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颅脑损伤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意识和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明确有无脑脊液漏</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卧床休息，取头高位，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以利漏口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外耳道、鼻腔和口腔清洁。及时清除外耳道、鼻腔的血迹和污垢，以防逆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禁从鼻腔吸痰和放置胃管。禁止严堵深塞鼻腔和耳道、禁止耳鼻滴药和冲洗，禁忌腰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用力咳嗽、打喷嚏，擤鼻涕，避免用力排便，以免颅内压的骤然变化导致脑脊液逆流</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镇静剂和止痛剂，减轻疼痛和不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预防性应用抗生素预防感染，并注射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脑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暂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逆行性遗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伴有头痛、头晕、恶心、呕吐、失眠等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系统检查无阳性体征，脑脊液无明显改变，</a:t>
            </a:r>
            <a:r>
              <a:rPr b="0" lang="en-US" sz="2800" spc="-1" strike="noStrike">
                <a:solidFill>
                  <a:srgbClr val="046ca6"/>
                </a:solidFill>
                <a:latin typeface="华文新魏"/>
              </a:rPr>
              <a:t>CT</a:t>
            </a:r>
            <a:r>
              <a:rPr b="0" lang="zh-CN" sz="2800" spc="-1" strike="noStrike">
                <a:solidFill>
                  <a:srgbClr val="046ca6"/>
                </a:solidFill>
                <a:latin typeface="华文新魏"/>
              </a:rPr>
              <a:t>无阳性发现</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过</a:t>
            </a:r>
            <a:r>
              <a:rPr b="0" lang="en-US" sz="2800" spc="-1" strike="noStrike">
                <a:solidFill>
                  <a:srgbClr val="046ca6"/>
                </a:solidFill>
                <a:latin typeface="华文新魏"/>
              </a:rPr>
              <a:t>30</a:t>
            </a:r>
            <a:r>
              <a:rPr b="0" lang="zh-CN" sz="2800" spc="-1" strike="noStrike">
                <a:solidFill>
                  <a:srgbClr val="046ca6"/>
                </a:solidFill>
                <a:latin typeface="华文新魏"/>
              </a:rPr>
              <a:t>分钟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灶症状和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与脑疝</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膜刺激征</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外血肿：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下血肿：出血积聚于硬膜下腔，为最常见的颅内血肿</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r>
              <a:rPr b="0" lang="zh-CN" sz="2800" spc="-1" strike="noStrike">
                <a:solidFill>
                  <a:srgbClr val="046ca6"/>
                </a:solidFill>
                <a:latin typeface="华文新魏"/>
              </a:rPr>
              <a:t>：首选项目</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需特殊处理，卧床休息</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完全恢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以非手术治疗为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清除血肿，颅骨钻孔引流术</a:t>
            </a: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障碍  与脑损伤、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理呼吸道无效  与意识障碍或气道内分泌物增多不能有效排痰有关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伤后进食障碍及呕吐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脑疝、感染、压疮、癫痫、消化道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头皮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畅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处理伤口，防止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护理记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状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活动 </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患者采取侧卧位，清醒患者，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基础护理</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颅内压增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轻脑水肿、降低颅内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患者适当给予缓泻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和体温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抗生素，防治颅内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高热常用物理降温，必要时可遵医嘱应用冬眠低温疗法</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性癫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化道出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皮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由外力作用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可有头皮血肿、头皮裂伤或头皮撕脱伤。头皮血液循环丰富，损伤时出血较多，严重时甚至可造成失血性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较小的损伤可无特殊处理。较大损伤需及时加压包扎止血，清创缝合，服用抗生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做好病情观察，伤口护理，预防感染和心理护理</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直接暴力或间接暴力作用于颅骨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颅盖骨折包括线性骨折和凹陷性骨折。颅底骨折部位不同，临床表现各异，主要表现为脑脊液漏、皮下或黏膜下瘀斑和脑神经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只给予对症处理，重者需及早手术。合并脑脊液漏时给予</a:t>
            </a:r>
            <a:r>
              <a:rPr b="0" lang="en-US" sz="2800" spc="-1" strike="noStrike">
                <a:solidFill>
                  <a:srgbClr val="046ca6"/>
                </a:solidFill>
                <a:latin typeface="华文新魏"/>
              </a:rPr>
              <a:t>TAT</a:t>
            </a:r>
            <a:r>
              <a:rPr b="0" lang="zh-CN" sz="2800" spc="-1" strike="noStrike">
                <a:solidFill>
                  <a:srgbClr val="046ca6"/>
                </a:solidFill>
                <a:latin typeface="华文新魏"/>
              </a:rPr>
              <a:t>和抗生素，必要时手术修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密切观察病情，做好脑脊液漏的护理，缓解疼痛，预防感染，同时做好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暴力直接或间接传导到头部所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脑震荡患者可有短暂意识障碍，逆行性遗忘，伴有头痛、头晕等表现。脑挫裂伤患者可有意识障碍、局灶症状和体征、颅内压增高与脑疝、脑膜刺激征。颅内血肿患者按照血肿的来源和部位分为硬膜外血肿、硬膜下血肿和脑内血肿三型。硬膜外血肿患者的典型表现是在原发性意识障碍后有一中间清醒期，即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给予对症处理或非手术治疗，重者需及早手术。其中防治脑水肿是治疗脑挫裂伤的关键。开放性脑损伤要及早清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做好紧急情况下的救治工作，注意观察意识、生命体征、瞳孔和肢体活动等，根据病情做好昏迷护理，防治颅内压增高，预防颅内感染和体温过高，做好并发症护理，提供心理支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A</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外伤后头部流血</a:t>
            </a:r>
            <a:r>
              <a:rPr b="0" lang="en-US" sz="2400" spc="-1" strike="noStrike">
                <a:solidFill>
                  <a:srgbClr val="046ca6"/>
                </a:solidFill>
                <a:latin typeface="华文新魏"/>
              </a:rPr>
              <a:t>20</a:t>
            </a:r>
            <a:r>
              <a:rPr b="0" lang="zh-CN" sz="2400" spc="-1" strike="noStrike">
                <a:solidFill>
                  <a:srgbClr val="046ca6"/>
                </a:solidFill>
                <a:latin typeface="华文新魏"/>
              </a:rPr>
              <a:t>分钟。</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体检： </a:t>
            </a:r>
            <a:r>
              <a:rPr b="0" lang="en-US" sz="2400" spc="-1" strike="noStrike">
                <a:solidFill>
                  <a:srgbClr val="046ca6"/>
                </a:solidFill>
                <a:latin typeface="华文新魏"/>
              </a:rPr>
              <a:t>T 37℃</a:t>
            </a:r>
            <a:r>
              <a:rPr b="0" lang="zh-CN" sz="2400" spc="-1" strike="noStrike">
                <a:solidFill>
                  <a:srgbClr val="046ca6"/>
                </a:solidFill>
                <a:latin typeface="华文新魏"/>
              </a:rPr>
              <a:t>，</a:t>
            </a:r>
            <a:r>
              <a:rPr b="0" lang="en-US" sz="2400" spc="-1" strike="noStrike">
                <a:solidFill>
                  <a:srgbClr val="046ca6"/>
                </a:solidFill>
                <a:latin typeface="华文新魏"/>
              </a:rPr>
              <a:t>P 8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2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 </a:t>
            </a:r>
            <a:r>
              <a:rPr b="0" lang="en-US" sz="2400" spc="-1" strike="noStrike">
                <a:solidFill>
                  <a:srgbClr val="046ca6"/>
                </a:solidFill>
                <a:latin typeface="华文新魏"/>
              </a:rPr>
              <a:t>BP 130/80mmHg</a:t>
            </a:r>
            <a:r>
              <a:rPr b="0" lang="zh-CN" sz="2400" spc="-1" strike="noStrike">
                <a:solidFill>
                  <a:srgbClr val="046ca6"/>
                </a:solidFill>
                <a:latin typeface="华文新魏"/>
              </a:rPr>
              <a:t>。全身皮肤黏膜无黄染，浅表淋巴结不大，头颅大小形态如常，头顶部有一</a:t>
            </a:r>
            <a:r>
              <a:rPr b="0" lang="en-US" sz="2400" spc="-1" strike="noStrike">
                <a:solidFill>
                  <a:srgbClr val="046ca6"/>
                </a:solidFill>
                <a:latin typeface="华文新魏"/>
              </a:rPr>
              <a:t>5cm</a:t>
            </a:r>
            <a:r>
              <a:rPr b="0" lang="zh-CN" sz="2400" spc="-1" strike="noStrike">
                <a:solidFill>
                  <a:srgbClr val="046ca6"/>
                </a:solidFill>
                <a:latin typeface="华文新魏"/>
              </a:rPr>
              <a:t>大小之皮肤裂伤，稍红肿，创缘整齐，血流不止，深达骨膜。双侧瞳孔等大正圆，对光反应敏感。耳廓无畸形，外耳道无分泌物，乳突区无压痛，口唇无发绀。伸舌居中，咽部不充血，扁桃体不大。</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血常规：</a:t>
            </a:r>
            <a:r>
              <a:rPr b="0" lang="en-US" sz="2400" spc="-1" strike="noStrike">
                <a:solidFill>
                  <a:srgbClr val="046ca6"/>
                </a:solidFill>
                <a:latin typeface="华文新魏"/>
              </a:rPr>
              <a:t>RBC 5.0×10</a:t>
            </a:r>
            <a:r>
              <a:rPr b="0" lang="en-US" sz="2400" spc="-1" strike="noStrike" baseline="30000">
                <a:solidFill>
                  <a:srgbClr val="046ca6"/>
                </a:solidFill>
                <a:latin typeface="华文新魏"/>
              </a:rPr>
              <a:t>12</a:t>
            </a:r>
            <a:r>
              <a:rPr b="0" lang="en-US" sz="2400" spc="-1" strike="noStrike">
                <a:solidFill>
                  <a:srgbClr val="046ca6"/>
                </a:solidFill>
                <a:latin typeface="华文新魏"/>
              </a:rPr>
              <a:t> /L</a:t>
            </a:r>
            <a:r>
              <a:rPr b="0" lang="zh-CN" sz="2400" spc="-1" strike="noStrike">
                <a:solidFill>
                  <a:srgbClr val="046ca6"/>
                </a:solidFill>
                <a:latin typeface="华文新魏"/>
              </a:rPr>
              <a:t>，</a:t>
            </a:r>
            <a:r>
              <a:rPr b="0" lang="en-US" sz="2400" spc="-1" strike="noStrike">
                <a:solidFill>
                  <a:srgbClr val="046ca6"/>
                </a:solidFill>
                <a:latin typeface="华文新魏"/>
              </a:rPr>
              <a:t>Hb 120g/L</a:t>
            </a:r>
            <a:r>
              <a:rPr b="0" lang="zh-CN" sz="2400" spc="-1" strike="noStrike">
                <a:solidFill>
                  <a:srgbClr val="046ca6"/>
                </a:solidFill>
                <a:latin typeface="华文新魏"/>
              </a:rPr>
              <a:t>，</a:t>
            </a:r>
            <a:r>
              <a:rPr b="0" lang="en-US" sz="2400" spc="-1" strike="noStrike">
                <a:solidFill>
                  <a:srgbClr val="046ca6"/>
                </a:solidFill>
                <a:latin typeface="华文新魏"/>
              </a:rPr>
              <a:t>WBC 11.9×10</a:t>
            </a:r>
            <a:r>
              <a:rPr b="0" lang="en-US" sz="2400" spc="-1" strike="noStrike" baseline="30000">
                <a:solidFill>
                  <a:srgbClr val="046ca6"/>
                </a:solidFill>
                <a:latin typeface="华文新魏"/>
              </a:rPr>
              <a:t>9</a:t>
            </a:r>
            <a:r>
              <a:rPr b="0" lang="en-US" sz="2400" spc="-1" strike="noStrike">
                <a:solidFill>
                  <a:srgbClr val="046ca6"/>
                </a:solidFill>
                <a:latin typeface="华文新魏"/>
              </a:rPr>
              <a:t> /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便常规：未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头颅</a:t>
            </a:r>
            <a:r>
              <a:rPr b="0" lang="en-US" sz="2400" spc="-1" strike="noStrike">
                <a:solidFill>
                  <a:srgbClr val="046ca6"/>
                </a:solidFill>
                <a:latin typeface="华文新魏"/>
              </a:rPr>
              <a:t>X</a:t>
            </a:r>
            <a:r>
              <a:rPr b="0" lang="zh-CN" sz="2400" spc="-1" strike="noStrike">
                <a:solidFill>
                  <a:srgbClr val="046ca6"/>
                </a:solidFill>
                <a:latin typeface="华文新魏"/>
              </a:rPr>
              <a:t>线检查：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帽状腱膜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膜下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r>
              <a:rPr b="0" lang="en-US" sz="2800" spc="-1" strike="noStrike">
                <a:solidFill>
                  <a:srgbClr val="046ca6"/>
                </a:solidFill>
                <a:latin typeface="华文新魏"/>
              </a:rPr>
              <a:t>CT</a:t>
            </a:r>
            <a:r>
              <a:rPr b="0" lang="zh-CN" sz="2800" spc="-1" strike="noStrike">
                <a:solidFill>
                  <a:srgbClr val="046ca6"/>
                </a:solidFill>
                <a:latin typeface="华文新魏"/>
              </a:rPr>
              <a:t>、</a:t>
            </a:r>
            <a:r>
              <a:rPr b="0" lang="en-US" sz="2800" spc="-1" strike="noStrike">
                <a:solidFill>
                  <a:srgbClr val="046ca6"/>
                </a:solidFill>
                <a:latin typeface="华文新魏"/>
              </a:rPr>
              <a:t>MRI</a:t>
            </a:r>
            <a:r>
              <a:rPr b="0" lang="zh-CN" sz="2800" spc="-1" strike="noStrike">
                <a:solidFill>
                  <a:srgbClr val="046ca6"/>
                </a:solidFill>
                <a:latin typeface="华文新魏"/>
              </a:rPr>
              <a:t>等影像学检查有助于发现有无合并颅骨骨折和颅脑损伤及其严重程度</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小的头皮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需特殊处理，</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自行吸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加压包扎止血，及早进行清创缝合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加压包扎，严格清创，头皮再植</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B</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头皮裂伤，给予清创缝合，同时注射破伤风抗毒素，给予阿莫西林口服。</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该患者主要的护理问题有哪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37:37Z</dcterms:modified>
  <cp:revision>91</cp:revision>
  <dc:subject/>
  <dc:title>内科护理学</dc:title>
</cp:coreProperties>
</file>